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A33C-9491-4717-8513-506A782C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70C2-5A6F-4081-B6E6-3B3BD58E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1F5-E8BA-41CA-A0B5-2F5E3884A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55BF-34D3-48BB-A2E8-8EB76606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B7E8-792F-4938-96DA-510981C71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9AE8-1DE8-4BC2-A05D-BE9DDB4F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850F-F737-40EE-A523-57F1F79F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CF16-26F1-4CB5-99C6-FBB2010B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AF6C-4E38-4097-8DF7-15AEA3A4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A978-61F2-4557-AF13-EA941173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F8E3-883B-4358-91F3-1CE8EB74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6F6-FC03-4C3B-8E55-116C6E5C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4D73-7A54-498E-9666-09FC52D5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40B1-7B03-401C-B121-D58366A5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7A91-0E32-4408-BC71-01AB1BB0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E17C-242D-4FBB-A468-A723425B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AC7B-A0BE-471A-8D7A-24B920EB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DC1-7E85-4340-8FD2-3AA57B61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345-1668-4DFA-AC28-EF46D0DE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6FE9-E348-42DF-829E-86A98D1F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AA0-0308-41C1-8287-2F60A5D0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C574-5B19-483E-B9BC-568BC171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0780-8A62-4C13-B1D2-1281EA54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112-C25C-40B6-AECA-ADFA703E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734F-B767-4570-AC82-6681D511838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4451-13DF-4576-B94F-94504CE8A2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AD4B34DF-19B1-4BA5-8F19-0AB8B9F1CBA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66840" y="1274760"/>
            <a:ext cx="8062920" cy="50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14.1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στευετε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τον θε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you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elie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11.48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ντες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στευσουσι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αὐτ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everyon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ill belie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7.5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ἱ ἀδελφοι αὐτου  ἐπιστευον εἰς αὐτο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is brother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ere believing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n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4.50: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πιστευσε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ἀνθρωπος τῳ λογῳ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the ma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believ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e w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terations in a verb change its tense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ετε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believe;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σιν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will believe; 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were believing; 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πιστευ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ε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believ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952560" y="1785960"/>
            <a:ext cx="7238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6.5.1 Words beginning with a vow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42960" y="3143160"/>
            <a:ext cx="6058080" cy="1770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1" lang="el-GR" sz="40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l-GR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) is added to a word beginning with a vowel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F6BC1CC0-FB7D-47FF-B2AA-26EB90D3911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3217F22C-479A-41A0-A013-10FEF47D78B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28840" y="5000760"/>
          <a:ext cx="6229440" cy="1066680"/>
        </p:xfrm>
        <a:graphic>
          <a:graphicData uri="http://schemas.openxmlformats.org/drawingml/2006/table">
            <a:tbl>
              <a:tblPr/>
              <a:tblGrid>
                <a:gridCol w="566640"/>
                <a:gridCol w="565200"/>
                <a:gridCol w="566640"/>
                <a:gridCol w="566640"/>
                <a:gridCol w="565200"/>
                <a:gridCol w="568440"/>
                <a:gridCol w="565200"/>
                <a:gridCol w="566640"/>
                <a:gridCol w="566640"/>
                <a:gridCol w="565200"/>
                <a:gridCol w="567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2"/>
          <p:cNvSpPr/>
          <p:nvPr/>
        </p:nvSpPr>
        <p:spPr>
          <a:xfrm>
            <a:off x="500040" y="4324320"/>
            <a:ext cx="45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pthongs follow the ch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1800" y="1428840"/>
          <a:ext cx="7358040" cy="2428920"/>
        </p:xfrm>
        <a:graphic>
          <a:graphicData uri="http://schemas.openxmlformats.org/drawingml/2006/table">
            <a:tbl>
              <a:tblPr/>
              <a:tblGrid>
                <a:gridCol w="1104840"/>
                <a:gridCol w="2181240"/>
                <a:gridCol w="1666800"/>
                <a:gridCol w="2405160"/>
              </a:tblGrid>
              <a:tr h="608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Box 6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9B2A2EF3-9CD1-413F-BD9E-8B919FB733D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098800" y="1843200"/>
            <a:ext cx="4800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6.5.2 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43040" y="3000240"/>
            <a:ext cx="5791320" cy="16945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n-GB" sz="35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GB" sz="3500" spc="-1" strike="noStrike">
                <a:solidFill>
                  <a:srgbClr val="ffffff"/>
                </a:solidFill>
                <a:latin typeface="Arial"/>
              </a:rPr>
              <a:t>augment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) is added to a compound verb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12680" y="1928880"/>
          <a:ext cx="8929800" cy="3357360"/>
        </p:xfrm>
        <a:graphic>
          <a:graphicData uri="http://schemas.openxmlformats.org/drawingml/2006/table">
            <a:tbl>
              <a:tblPr/>
              <a:tblGrid>
                <a:gridCol w="1365120"/>
                <a:gridCol w="1621080"/>
                <a:gridCol w="2344680"/>
                <a:gridCol w="3598920"/>
              </a:tblGrid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k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λυ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λυ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setting f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 - ελυ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βαλλ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εβαλλ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throwing o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 - εβαλλ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depart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ο - εαγ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ὑπο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αγ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gather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 - εαγο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→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υν - ηγο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122"/>
          <p:cNvSpPr/>
          <p:nvPr/>
        </p:nvSpPr>
        <p:spPr>
          <a:xfrm>
            <a:off x="304920" y="12794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5BDC0590-DCDE-4AE0-A51B-EC981626C1B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00040" y="1565280"/>
            <a:ext cx="8001000" cy="3935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Observe the difference between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contraction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elisio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ἠ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αβλεπ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εβλεπ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 +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αγον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→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νηγο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ἐ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E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4A5DD2B4-04E0-475F-B329-C40222FBCD1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973080" y="1504800"/>
            <a:ext cx="7143840" cy="1740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Watch out when an </a:t>
            </a:r>
            <a:r>
              <a:rPr b="1" lang="el-GR" sz="38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3500" spc="-1" strike="noStrike">
                <a:solidFill>
                  <a:srgbClr val="ffffff"/>
                </a:solidFill>
                <a:latin typeface="Arial"/>
              </a:rPr>
              <a:t> is added to stem of a verb ending in a consonan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0200" y="3786120"/>
          <a:ext cx="4157640" cy="1736640"/>
        </p:xfrm>
        <a:graphic>
          <a:graphicData uri="http://schemas.openxmlformats.org/drawingml/2006/table">
            <a:tbl>
              <a:tblPr/>
              <a:tblGrid>
                <a:gridCol w="1994040"/>
                <a:gridCol w="525600"/>
                <a:gridCol w="493560"/>
                <a:gridCol w="654120"/>
                <a:gridCol w="4903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Box 3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0462F8B6-ACAD-4216-A992-EDE755D9FF3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85840" y="1643040"/>
          <a:ext cx="8572320" cy="2422440"/>
        </p:xfrm>
        <a:graphic>
          <a:graphicData uri="http://schemas.openxmlformats.org/drawingml/2006/table">
            <a:tbl>
              <a:tblPr/>
              <a:tblGrid>
                <a:gridCol w="1812960"/>
                <a:gridCol w="2259000"/>
                <a:gridCol w="2387520"/>
                <a:gridCol w="2112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π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ψ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επ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ιζ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ισ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bapt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πτζ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γ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ξ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o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νοιγ - 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47"/>
          <p:cNvSpPr/>
          <p:nvPr/>
        </p:nvSpPr>
        <p:spPr>
          <a:xfrm>
            <a:off x="252360" y="11365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0"/>
          <p:cNvSpPr/>
          <p:nvPr/>
        </p:nvSpPr>
        <p:spPr>
          <a:xfrm>
            <a:off x="714240" y="4259160"/>
            <a:ext cx="7572600" cy="1867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cause the Aorist involves the addition of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fix and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, both sets of complications can occur. Thus the aoris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οιγ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νοιξ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ε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οι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γσ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71280" y="29988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OINTS TO NOTE ABOUT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σ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UFF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2D642A90-72E7-4FF3-8DEE-B36018A9286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1000080" y="1212840"/>
            <a:ext cx="63914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γο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really </a:t>
            </a:r>
            <a:r>
              <a:rPr b="0" lang="en-GB" sz="2200" spc="-1" strike="noStrike">
                <a:solidFill>
                  <a:srgbClr val="ffffff"/>
                </a:solidFill>
                <a:latin typeface="Calibri"/>
                <a:ea typeface="Times New Roman"/>
              </a:rPr>
              <a:t>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ἐ - ἀγ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thus is an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οιξ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 really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οιγ - σ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thus a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73200" y="2438280"/>
            <a:ext cx="7810560" cy="15706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Very few verbs begin with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most no verbs end i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ψ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or a singl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ri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914400" y="4191120"/>
            <a:ext cx="73152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χ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I have) is unus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mperf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ἰχον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being augmented to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ἰ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 not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Futu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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ξ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χ 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σ </a:t>
            </a:r>
            <a:r>
              <a:rPr b="0" lang="en-GB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s expected, but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 not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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73080" y="41400"/>
            <a:ext cx="89852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EALING WITH THE PREFIX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SUFFIX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D788FBF3-14EF-47DF-A4CF-C7F1643C9CD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952560" y="2214720"/>
            <a:ext cx="723888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Future and the Aorist the addition of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 causes two chan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lengthen to a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i) The endings are now be next to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the weak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so there are no cont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985996E6-DD39-4E24-B069-414A5232E6D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3"/>
          <p:cNvSpPr/>
          <p:nvPr/>
        </p:nvSpPr>
        <p:spPr>
          <a:xfrm>
            <a:off x="73080" y="25884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8 TENSES IN THE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-εω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BA4B695E-AAE2-4C55-A06E-79579139767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25440" y="1357200"/>
          <a:ext cx="8475840" cy="4741920"/>
        </p:xfrm>
        <a:graphic>
          <a:graphicData uri="http://schemas.openxmlformats.org/drawingml/2006/table">
            <a:tbl>
              <a:tblPr/>
              <a:tblGrid>
                <a:gridCol w="1695600"/>
                <a:gridCol w="1693800"/>
                <a:gridCol w="1695240"/>
                <a:gridCol w="1695600"/>
                <a:gridCol w="169560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ει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ν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ησου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ου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ιλη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14200" y="1214280"/>
            <a:ext cx="87156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Four Tenses: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Present, Future, Imperfect, Aori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t tenses communicate bo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the action is taking place (present, future, past etc.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)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sp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the nature of the action – was it a process? is it completed? etc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μεν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ote adde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 = ‘w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i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untie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7EC0E0BD-5D77-4A6D-8786-4B0B006DB77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631A1A3A-3164-4B66-A6D7-40398114A68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87400" y="1511280"/>
          <a:ext cx="6899400" cy="2631960"/>
        </p:xfrm>
        <a:graphic>
          <a:graphicData uri="http://schemas.openxmlformats.org/drawingml/2006/table">
            <a:tbl>
              <a:tblPr/>
              <a:tblGrid>
                <a:gridCol w="1565280"/>
                <a:gridCol w="1795320"/>
                <a:gridCol w="739800"/>
                <a:gridCol w="700200"/>
                <a:gridCol w="600120"/>
                <a:gridCol w="14986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e: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211"/>
          <p:cNvSpPr/>
          <p:nvPr/>
        </p:nvSpPr>
        <p:spPr>
          <a:xfrm>
            <a:off x="785880" y="4572000"/>
            <a:ext cx="71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e different tenses are formed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dding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prefix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nd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suffixe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to the 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y having a </a:t>
            </a:r>
            <a:r>
              <a:rPr b="0" i="1" lang="en-GB" sz="2400" spc="-1" strike="noStrike">
                <a:solidFill>
                  <a:srgbClr val="ffffff"/>
                </a:solidFill>
                <a:latin typeface="Verdana"/>
              </a:rPr>
              <a:t>different set of endings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79280" y="1173240"/>
            <a:ext cx="8329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fixes and suffixes are the easiest to sp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wo past tenses (Aorist and Imperfect) have an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efix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augment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uture and the Aorist both have a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86040" y="3289320"/>
          <a:ext cx="5400720" cy="2971800"/>
        </p:xfrm>
        <a:graphic>
          <a:graphicData uri="http://schemas.openxmlformats.org/drawingml/2006/table">
            <a:tbl>
              <a:tblPr/>
              <a:tblGrid>
                <a:gridCol w="1203120"/>
                <a:gridCol w="816120"/>
                <a:gridCol w="1171440"/>
                <a:gridCol w="685800"/>
                <a:gridCol w="15242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18EDD1B4-EDF5-4F13-A5D8-394887AB87D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6C88F7DE-5794-4239-B5E6-7E53C15A986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34920" y="1217520"/>
          <a:ext cx="7272360" cy="3568680"/>
        </p:xfrm>
        <a:graphic>
          <a:graphicData uri="http://schemas.openxmlformats.org/drawingml/2006/table">
            <a:tbl>
              <a:tblPr/>
              <a:tblGrid>
                <a:gridCol w="1785960"/>
                <a:gridCol w="1219320"/>
                <a:gridCol w="1752480"/>
                <a:gridCol w="2514600"/>
              </a:tblGrid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29"/>
          <p:cNvSpPr/>
          <p:nvPr/>
        </p:nvSpPr>
        <p:spPr>
          <a:xfrm>
            <a:off x="800280" y="4884840"/>
            <a:ext cx="754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undefin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spect may be used for two reas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 implication as to manner of a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nctilliar (‘one time’) s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28760" y="1285920"/>
            <a:ext cx="7272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ce between the Imperfect and the Aor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: Un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unt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: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used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was unt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 began to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5760" y="4986360"/>
            <a:ext cx="8116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atthe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5.2: He opened his mouth (Aorist) and began to teach (Imperfec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F154F82D-A0CC-49E0-A29D-C58C7F7F600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95120" y="1357200"/>
          <a:ext cx="8734680" cy="3286080"/>
        </p:xfrm>
        <a:graphic>
          <a:graphicData uri="http://schemas.openxmlformats.org/drawingml/2006/table">
            <a:tbl>
              <a:tblPr/>
              <a:tblGrid>
                <a:gridCol w="865440"/>
                <a:gridCol w="2138400"/>
                <a:gridCol w="1860480"/>
                <a:gridCol w="2325600"/>
                <a:gridCol w="1544760"/>
              </a:tblGrid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432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ill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e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4320">
                      <a:solidFill>
                        <a:srgbClr val="ffcc66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249"/>
          <p:cNvSpPr/>
          <p:nvPr/>
        </p:nvSpPr>
        <p:spPr>
          <a:xfrm>
            <a:off x="509760" y="4756320"/>
            <a:ext cx="5562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sing. is ‘he’, ‘she’, or ‘it’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 can be ‘I loosen’, ‘You loosen’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erfect can be 'I used to untie'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MEANING OF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91865821-744D-430B-83BB-16645367A06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500040" y="1192320"/>
          <a:ext cx="8210520" cy="3139920"/>
        </p:xfrm>
        <a:graphic>
          <a:graphicData uri="http://schemas.openxmlformats.org/drawingml/2006/table">
            <a:tbl>
              <a:tblPr/>
              <a:tblGrid>
                <a:gridCol w="1546200"/>
                <a:gridCol w="1663920"/>
                <a:gridCol w="1800000"/>
                <a:gridCol w="1560600"/>
                <a:gridCol w="16398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ε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ετ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 - ουσι(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 - 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 - 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65"/>
          <p:cNvSpPr/>
          <p:nvPr/>
        </p:nvSpPr>
        <p:spPr>
          <a:xfrm>
            <a:off x="304920" y="4335480"/>
            <a:ext cx="8534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uture endings = Present e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, Future, Imperfect begin with ‘o’ or ‘e’ sound, Aorist with ‘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pl.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able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 Imperfect and Aorist 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sing., as in Present and Future 3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erson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F8EAFA4C-A583-4255-9707-6BF89DABCB3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85840" y="1143000"/>
            <a:ext cx="8501040" cy="52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ὁ Ἰησους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διδασκ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ἐν τῃ συναγωγῃ και πολλοι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πιστευσα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διδασκ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Imperfect, therefore describing a past process – 'Jesus was in the process of teaching in the synagogu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πιστευσα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Aorist, therefore describing a past undefined (not a process) action – 'many believed' or 'many came to believ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Jesus was teaching in the synagogue and many believed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ὁ θεος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πεμπ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τους ἀγγελους. ἀλλα νυν </a:t>
            </a:r>
            <a:r>
              <a:rPr b="1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σμεν</a:t>
            </a:r>
            <a:r>
              <a:rPr b="1" lang="el-GR" sz="2400" spc="-1" strike="noStrike">
                <a:solidFill>
                  <a:srgbClr val="ffffff"/>
                </a:solidFill>
                <a:latin typeface="Gentium"/>
              </a:rPr>
              <a:t> μονο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πεμπ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Imperfect, therefore describing a past process – 'God used to send messengers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σμε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Present, therefore describing the current situation – 'we are alone'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 God used to send messengers, but now we are al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47680" y="2998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:Grammar </a:t>
            </a:r>
            <a:fld id="{669234AE-C6D3-4A4D-8611-57ECB56E91B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15:50Z</dcterms:created>
  <dc:creator>Sarah</dc:creator>
  <dc:description/>
  <dc:language>en-US</dc:language>
  <cp:lastModifiedBy>Sarah</cp:lastModifiedBy>
  <dcterms:modified xsi:type="dcterms:W3CDTF">2009-03-04T01:21:57Z</dcterms:modified>
  <cp:revision>62</cp:revision>
  <dc:subject/>
  <dc:title>Slide 1</dc:title>
</cp:coreProperties>
</file>